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7FB-26B0-43D5-BB2E-4B862D1B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8E6-52AE-4C33-ADB6-97B6B749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6B0-0A08-457B-BF24-846F1238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0D9-2C24-4166-8B68-6B9778C4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EFF-396F-4CD4-9CA1-4F682CA5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DF0-6D52-4599-83B4-FB3DC23F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347-AE66-4C34-836B-4A672779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956-2E16-4766-920D-993662C7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451-F76A-43A0-B59C-48B13597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E70-4E1A-4F95-9B89-2F1C3DB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5CE-2024-46BF-A01D-E740C660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6EA-84F0-453B-BC8B-3AFA4F38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2BCF-F7C6-4694-8C3E-AA7BA12451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7960" y="1447920"/>
            <a:ext cx="47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105520"/>
            <a:ext cx="91440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Mr Moor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choolHistory.co.uk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choolsHistory.org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propagan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aganda is the use of the Media to aggressively promote one point of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aganda is ‘brainwashing’ of the public, convincing them of an ideological view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2602080"/>
            <a:ext cx="38098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azi’s quickly recognised the value of the media. From the early days of the party they used aggressive advertising to promote the nazi ide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ebbels was in charge of ‘enlightening’ the German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azi Propaganda: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ers are cheap and easy to dis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ced in prominent positions they act as a constant reminder of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for many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27160" y="1981080"/>
            <a:ext cx="292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990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amples of Nazi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2183040" cy="155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9880" y="160020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5280" y="3505320"/>
            <a:ext cx="175104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886200" y="3581280"/>
            <a:ext cx="172404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235560" y="3429000"/>
            <a:ext cx="174636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289560" y="1143000"/>
            <a:ext cx="14097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tler’s Spee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3200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304812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ler is considered to have been one of the greatest public speakers of a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70040" y="83808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523880"/>
            <a:ext cx="7772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m was used to show Hitler in a positive light as ofte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azi’s commissioned several films, each carefully portraying a certain image – try to think what this may have been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soring newspapers ensures that only the news you want people to read is available to the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zi party members wrote many articles for the press, ensuring that the message was alway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publications were ban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2:56:27Z</dcterms:created>
  <dc:creator>Dan</dc:creator>
  <dc:description/>
  <dc:language>en-US</dc:language>
  <cp:lastModifiedBy>vanweringhdoulisi</cp:lastModifiedBy>
  <dcterms:modified xsi:type="dcterms:W3CDTF">2009-04-30T05:25:49Z</dcterms:modified>
  <cp:revision>8</cp:revision>
  <dc:subject/>
  <dc:title>Nazi Propaganda</dc:title>
</cp:coreProperties>
</file>